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4A04-06C1-4C7D-9B5F-3D883726F3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: «Введение»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комить с новым направлением в мире – глобальная география; формировать глобальное мышление; развивать познавательный интерес к общечеловеческим пробле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4184-021F-46F1-A65C-CE51C6508C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занят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а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лекция, фронтальная (1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0FF8-074F-4DB2-A8F9-599D046B2A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глобальная географ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глобальной географии с другими науками и дисципли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лобальный» - охватывает весь Земной 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ланетарный» - относящийся к Земле, как части солнеч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национальный» - культурологическое происх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12BB-BAFC-4CA8-9C30-32785A8C93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вся Земля (процессы, явления, закономерности, пробле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5071-B3EF-4089-9205-650CDD4008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нат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глобальных проблемах современности: естественно – научных и общественных. Интегрировать знания по другим предметам, максимально использовать общеобразовательный и культурологический потенциал географии как учебного 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ывать и показы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азличных картах мира государства, столицы, крупнейшие промышленные и культурные центры мира, транспортные центры, природные ресурсы и районы их размещения, районы нового освоения, сельскохозяйственные районы, основные формы правления и государственного 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редел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экономического развития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ные явления, угрожающие отдельным культурам и территор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е формы и сферы жизн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зо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соврем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ные, природно – антропогенные, психологические, аутэкологические проблемы современности, которые либо создают угрозу современности, либо служат лимитирующими факторами её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яс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природных, экологических, социальных, экономических на особенности и размещение населения Земли; экологические ситуации отдельных территорий и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и обострение глобальных проблем человечества; особенности рационального и нерационального природо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нозиро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пы роста населения Земл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антропогенного воздействия на природную среду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8BDF-79AC-407F-BF2E-7F32976E49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сти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геог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учебн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сследует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учает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F7B9-AA9E-4247-A387-35587CACF1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курса «Глобальная географ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72BD-50FD-4459-BCDD-7A7163F79A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D097-05E0-48D8-9C8F-AEAF5D3D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D3D-EAF7-4A70-A6AB-59391666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6A8-2B13-47BF-BD57-EFDB1D7A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F3D-7280-4EB8-A487-D5AAA508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638B6-5CFE-44D9-8073-95AEDE52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A6C5D-BCFD-4727-8C9F-FE94791C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432AB-C919-4469-AB56-978054B9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B3891-C75A-4A15-AB38-33421E26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64E0F-1AE5-4D8A-AEF0-9B6F86E6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BDCAA-5129-4251-B4C3-401D1885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02E09-6DDC-4112-9906-31A2CF97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C8C-EECB-4359-91DC-0ACD0504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4B667-7270-4250-854F-20C282D5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0F885-20AC-45E0-9BAD-6FD83635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0B02B-6789-4B7C-870A-866E4A64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8F623-6A7A-470B-8653-68EFBE2F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EADD9-B828-4E94-A715-22F83CC3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7B8-55BA-4631-B5D5-17A479FB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375-351C-4A0D-AFB0-A0BBC676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8A3-4421-4ADB-8204-95C15D34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BA5-1D33-43F3-ACB6-144FB5B5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D52-D75E-4A48-B48C-080CF2D6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9B1-A834-4ADC-9D45-FDBB206D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59F-7A43-4AEA-8519-DA84AC4C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E518-9838-47E2-BE5F-A1DCDD53649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A9A7-DE44-4822-885A-0C9C55AB90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3e3ff"/>
                </a:solidFill>
                <a:latin typeface="Arial"/>
              </a:rPr>
              <a:t>Тема: «Введение»  </a:t>
            </a:r>
            <a:br>
              <a:rPr sz="5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урок №1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знакомить с новым направлением в мире – глобальная география; формировать глобальное мышление; развивать познавательный интерес к общечеловеческим проблем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ип занятия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ек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а работы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лекция, фронтальная (1 ча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изучает глобальная географ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грация глобальной географии с другими науками и дисциплин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н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лобальный» - охватывает весь Земной ш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ланетарный» - относящийся к Земле, как части солнечной сис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нтернациональный» - культурологическое происхож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ъек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- вся Земля (процессы, явления, закономерности, проблем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нать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владение системой знаний о глобальных проблемах современности: естественно – научных и общественных. Интегрировать знания по другим предметам, максимально использовать общеобразовательный и культурологический потенциал географии как учебного предм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зывать и показы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различных картах мира государства, столицы, крупнейшие промышленные и культурные центры мира, транспортные центры, природные ресурсы и районы их размещения, районы нового освоения, сельскохозяйственные районы, основные формы правления и государственного устрой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пределя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ровень экономического развития стран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изисные явления, угрожающие отдельным культурам и территори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шающие формы и сферы жизни челове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арактеризо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лобальные проблемы современ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родные, природно – антропогенные, психологические, аутэкологические проблемы современности, которые либо создают угрозу современности, либо служат лимитирующими факторами её развит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бъясня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лияние природных, экологических, социальных, экономических на особенности и размещение населения Земли; экологические ситуации отдельных территорий и стран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никновение и обострение глобальных проблем человечества; особенности рационального и нерационального природопольз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нозиро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емпы роста населения Земли в цело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новные направления антропогенного воздействия на природную среду в современн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истик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ьная геогаф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учебна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сследует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бучает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учение курса «Глобальная географ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2997360"/>
          <a:ext cx="7834320" cy="2614320"/>
        </p:xfrm>
        <a:graphic>
          <a:graphicData uri="http://schemas.openxmlformats.org/drawingml/2006/table">
            <a:tbl>
              <a:tblPr/>
              <a:tblGrid>
                <a:gridCol w="2089080"/>
                <a:gridCol w="5745240"/>
              </a:tblGrid>
              <a:tr h="54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ждисциплинар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графическ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ференцирован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обаль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5:55:24Z</dcterms:created>
  <dc:creator>Your User Name</dc:creator>
  <dc:description/>
  <dc:language>en-US</dc:language>
  <cp:lastModifiedBy>LEGION</cp:lastModifiedBy>
  <dcterms:modified xsi:type="dcterms:W3CDTF">2014-12-29T08:38:52Z</dcterms:modified>
  <cp:revision>5</cp:revision>
  <dc:subject/>
  <dc:title>Тема: «Введение»   урок №1</dc:title>
</cp:coreProperties>
</file>